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57F75-8AB1-489D-8062-AA8EBDE93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B5CD8-D955-40DE-8A90-E4D81C502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BD1A6-156F-45FC-BD1B-A5F48B011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23D37-C58A-4DFB-B25F-CC74261FE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C1651-05ED-4494-BECD-786A52F1A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980B9-9B46-43AE-9BB5-97ECB23FE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894EF-4DDD-49C1-9B50-4698EA69D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9CCB0-9E93-4398-B06B-D5A75DFA8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32D5F-AD2E-40A4-8E7F-35776711F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0AAAF-D19C-4C2D-B1B3-3D913255F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3DD95-4741-494B-B14A-1EB76BC9B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89346-8434-4012-853D-7BC427F41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FEFC5-EAA5-4782-A58E-B7AFB45C7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751E4-79AF-4F0A-9F07-B23E1372C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FAD86-112F-4EBE-B911-B3B4E3C5D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BC962-6A54-4FAC-9C3F-1E60143E79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78CDA6-8374-4BEE-A642-CCB17FE71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EA842-ABAA-49FC-AB9A-013A8E54C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B9574-D783-4D8B-8713-879770923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45C86-038D-4520-9CA5-0DF0DB95E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2DC26-9FE1-4932-9ED3-8056DDBA5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A0F24-2ABC-400F-9855-D122BBAD1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50DD6-22D7-4D26-9D2A-0BB251442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36051-F9FF-4C9D-9F30-7F66096F7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A684-C255-4B47-816D-0C2C12446F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3960" y="714240"/>
              <a:ext cx="6411960" cy="4708440"/>
              <a:chOff x="2343960" y="714240"/>
              <a:chExt cx="6411960" cy="4708440"/>
            </a:xfrm>
          </p:grpSpPr>
          <p:sp>
            <p:nvSpPr>
              <p:cNvPr id="295" name="Freeform 121"/>
              <p:cNvSpPr/>
              <p:nvPr/>
            </p:nvSpPr>
            <p:spPr>
              <a:xfrm flipH="1">
                <a:off x="4470840" y="323640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5440" y="2581200"/>
                <a:ext cx="2617200" cy="2841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6800" y="212364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3600" y="1739160"/>
                <a:ext cx="2930760" cy="2933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8640" y="215208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11760" y="2138400"/>
                <a:ext cx="123804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7080" y="354852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5400" y="2949840"/>
                <a:ext cx="54468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8120" y="3386880"/>
                <a:ext cx="133848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8840" y="1400040"/>
                <a:ext cx="85824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3920" y="3110400"/>
                <a:ext cx="1242000" cy="19746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8800" y="211140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7920" y="714240"/>
                <a:ext cx="817560" cy="1768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4640" y="2156040"/>
                <a:ext cx="54504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4457-C32D-4F99-8AAC-BE1333649224}"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eem.org.uk/publications/teem_gamesined_full.pdf" TargetMode="External"/><Relationship Id="rId2" Type="http://schemas.openxmlformats.org/officeDocument/2006/relationships/hyperlink" Target="http://serc.carleton.edu/introgeo/games/" TargetMode="External"/><Relationship Id="rId3" Type="http://schemas.openxmlformats.org/officeDocument/2006/relationships/hyperlink" Target="http://www.geocities.com/Athens/Delphi/1979/games/articles/gamescancer.html"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Use of Computer Games in the Classroom</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447920" y="4419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Itumeleng Shadreck</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evelops skills such as problem solving, sequencing, deductive reasoning and memorizatio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otivates students to lear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ncourages them to learn from their mistake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ngages students</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a:t>
            </a: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ismatch between game content and curriculum conten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desire to win only makes the children more interested in winning.</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tudents don’t enjoy the subject, just the game</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ffects students academic performance on written tests.</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 my opinion….</a:t>
            </a:r>
            <a:endParaRPr b="0" lang="en-US" sz="4400" spc="-1" strike="noStrike">
              <a:solidFill>
                <a:srgbClr val="ffffff"/>
              </a:solidFill>
              <a:latin typeface="Arial Black"/>
            </a:endParaRPr>
          </a:p>
        </p:txBody>
      </p:sp>
      <p:sp>
        <p:nvSpPr>
          <p:cNvPr id="357" name="PlaceHolder 2"/>
          <p:cNvSpPr>
            <a:spLocks noGrp="1"/>
          </p:cNvSpPr>
          <p:nvPr>
            <p:ph/>
          </p:nvPr>
        </p:nvSpPr>
        <p:spPr>
          <a:xfrm>
            <a:off x="533520" y="1981080"/>
            <a:ext cx="7772400" cy="4114800"/>
          </a:xfrm>
          <a:prstGeom prst="rect">
            <a:avLst/>
          </a:prstGeom>
          <a:noFill/>
          <a:ln w="0">
            <a:noFill/>
          </a:ln>
        </p:spPr>
        <p:txBody>
          <a:bodyPr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re is no reason for students not to use games in the classroom as long as they prove to be relevant to the content in the classroom. Games should also not be the only way to assess students. They should just be used as one way to teach or practice a skill.</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or more information go to……</a:t>
            </a:r>
            <a:endParaRPr b="0" lang="en-US" sz="4000" spc="-1" strike="noStrike">
              <a:solidFill>
                <a:srgbClr val="ffffff"/>
              </a:solidFill>
              <a:latin typeface="Arial Black"/>
            </a:endParaRPr>
          </a:p>
        </p:txBody>
      </p:sp>
      <p:sp>
        <p:nvSpPr>
          <p:cNvPr id="359"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hlinkClick r:id="rId1"/>
              </a:rPr>
              <a:t>http://www.teem.org.uk/publications/teem_gamesined_full.pdf</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hlinkClick r:id="rId2"/>
              </a:rPr>
              <a:t>http://serc.carleton.edu/introgeo/gam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Arial Black"/>
                <a:hlinkClick r:id="rId3"/>
              </a:rPr>
              <a:t>http://www.geocities.com/Athens/Delphi/1979/games/articles/gamescancer.html</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http://vghvinet.ning.com/forum/topics/whats-the-best-argument?page=1&amp;commentId=2423016%3AComment%3A721&amp;x=1#2423016Comment721</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ttp://74.125.93.104/search?q=cache:vwyL1e7t1FcJ:https://www.msu.edu/~clarks14/Coursework/810/anti-tech.ppt+against+use+of+games+in+classroom+argument&amp;cd=5&amp;hl=en&amp;ct=clnk&amp;gl=us</a:t>
            </a:r>
            <a:endParaRPr b="0" lang="en-US" sz="2800" spc="-1" strike="noStrike">
              <a:solidFill>
                <a:srgbClr val="ffcc00"/>
              </a:solidFill>
              <a:latin typeface="Arial Black"/>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1T19:19:39Z</dcterms:created>
  <dc:creator>SHADRECKI0422</dc:creator>
  <dc:description/>
  <dc:language>en-US</dc:language>
  <cp:lastModifiedBy>slamb</cp:lastModifiedBy>
  <dcterms:modified xsi:type="dcterms:W3CDTF">2009-05-15T15:56:16Z</dcterms:modified>
  <cp:revision>2</cp:revision>
  <dc:subject/>
  <dc:title>The Use of Computer Games in the Classroom</dc:title>
</cp:coreProperties>
</file>